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6EA-A3A8-417C-9647-B73F7216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75D-531E-472C-9BDC-A321D30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369-F435-4F4A-86CF-12F86CF0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C2B-EEB3-471A-A5F5-D17CACC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877-7967-4CC3-A1C7-0ED02D0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AF6-E0A9-4371-8EDF-27354735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894-EBD8-44F2-9523-37C94A7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72F-E5AB-4956-B8FD-2E284BA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F0D-6E86-43EC-8B0D-30AF6839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623-7537-44B4-B8C3-13B77A6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5C2-9754-460C-89CF-0325265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10B-3DA6-4BC7-983A-A2D7035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A84-8994-4C2D-AF7A-06C525FD6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</a:rPr>
              <a:t>ROLL TIDE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 is my Favorite Boo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60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077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apyrus"/>
              </a:rPr>
              <a:t>I really want to go to Santorini, Gre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03:35Z</dcterms:created>
  <dc:creator>emilyevans</dc:creator>
  <dc:description/>
  <dc:language>en-US</dc:language>
  <cp:lastModifiedBy>emilyevans</cp:lastModifiedBy>
  <dcterms:modified xsi:type="dcterms:W3CDTF">2008-12-12T19:07:20Z</dcterms:modified>
  <cp:revision>2</cp:revision>
  <dc:subject/>
  <dc:title>My Favorite Things</dc:title>
</cp:coreProperties>
</file>